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png" ContentType="image/png"/>
  <Override PartName="/ppt/media/image22.png" ContentType="image/png"/>
  <Override PartName="/ppt/media/image21.png" ContentType="image/png"/>
  <Override PartName="/ppt/media/image29.wmf" ContentType="image/x-wmf"/>
  <Override PartName="/ppt/media/image19.jpeg" ContentType="image/jpeg"/>
  <Override PartName="/ppt/media/image25.png" ContentType="image/png"/>
  <Override PartName="/ppt/media/image18.png" ContentType="image/png"/>
  <Override PartName="/ppt/media/image16.jpeg" ContentType="image/jpeg"/>
  <Override PartName="/ppt/media/image26.png" ContentType="image/png"/>
  <Override PartName="/ppt/media/image17.jpeg" ContentType="image/jpe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32.jpeg" ContentType="image/jpeg"/>
  <Override PartName="/ppt/media/image34.jpeg" ContentType="image/jpeg"/>
  <Override PartName="/ppt/media/image31.wmf" ContentType="image/x-wmf"/>
  <Override PartName="/ppt/media/image36.jpeg" ContentType="image/jpeg"/>
  <Override PartName="/ppt/media/image9.jpeg" ContentType="image/jpeg"/>
  <Override PartName="/ppt/media/image37.gif" ContentType="image/gif"/>
  <Override PartName="/ppt/media/image38.gif" ContentType="image/gif"/>
  <Override PartName="/ppt/media/image15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14.wmf" ContentType="image/x-wmf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0.wmf" ContentType="image/x-wmf"/>
  <Override PartName="/ppt/media/image2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E5C-55C4-4F12-9AC0-69EAE378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CED5-4E4B-4CF8-B2E0-5C887792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601-769E-4B03-814A-C7575F41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0E4A-D0F5-4B62-B15C-3D84C36E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3DE-B002-4ABE-A68B-1BFB796E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DBB-5E5D-4DA9-A213-A78761E7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C63-F819-4E18-BDCA-9E2049D1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62B-4BEC-4A89-9A5E-24E871AB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3DB-F3C7-4E20-8782-5C7CA533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4122-66FC-46BA-A4AD-E22FAA14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EF61-675F-4040-AE86-AF067606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93C-1F95-44C1-8DE9-02BC1287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86E7-B487-4B54-B5EF-5732B825EE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фото-1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971640" y="1341360"/>
            <a:ext cx="7129440" cy="4572000"/>
          </a:xfrm>
          <a:prstGeom prst="rect">
            <a:avLst/>
          </a:prstGeom>
          <a:ln w="0">
            <a:noFill/>
          </a:ln>
        </p:spPr>
      </p:pic>
      <p:pic>
        <p:nvPicPr>
          <p:cNvPr id="43" name="WordArt 6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150400" cy="206712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7" descr="Песок"/>
          <p:cNvPicPr/>
          <p:nvPr/>
        </p:nvPicPr>
        <p:blipFill>
          <a:blip r:embed="rId3"/>
          <a:stretch/>
        </p:blipFill>
        <p:spPr>
          <a:xfrm>
            <a:off x="237960" y="1762200"/>
            <a:ext cx="500400" cy="445608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8" descr="Песок"/>
          <p:cNvPicPr/>
          <p:nvPr/>
        </p:nvPicPr>
        <p:blipFill>
          <a:blip r:embed="rId4"/>
          <a:stretch/>
        </p:blipFill>
        <p:spPr>
          <a:xfrm>
            <a:off x="8302680" y="1689120"/>
            <a:ext cx="517320" cy="4602240"/>
          </a:xfrm>
          <a:prstGeom prst="rect">
            <a:avLst/>
          </a:prstGeom>
          <a:ln w="0">
            <a:noFill/>
          </a:ln>
        </p:spPr>
      </p:pic>
      <p:pic>
        <p:nvPicPr>
          <p:cNvPr id="46" name="WordArt 9" descr=""/>
          <p:cNvPicPr/>
          <p:nvPr/>
        </p:nvPicPr>
        <p:blipFill>
          <a:blip r:embed="rId5"/>
          <a:stretch/>
        </p:blipFill>
        <p:spPr>
          <a:xfrm>
            <a:off x="1390680" y="6224760"/>
            <a:ext cx="6607080" cy="407880"/>
          </a:xfrm>
          <a:prstGeom prst="rect">
            <a:avLst/>
          </a:prstGeom>
          <a:ln w="0">
            <a:noFill/>
          </a:ln>
        </p:spPr>
      </p:pic>
      <p:pic>
        <p:nvPicPr>
          <p:cNvPr id="47" name="WordArt 10" descr=""/>
          <p:cNvPicPr/>
          <p:nvPr/>
        </p:nvPicPr>
        <p:blipFill>
          <a:blip r:embed="rId6"/>
          <a:stretch/>
        </p:blipFill>
        <p:spPr>
          <a:xfrm>
            <a:off x="1249200" y="3352680"/>
            <a:ext cx="6426360" cy="5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ECONDARY 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five years of secondary education, pupils take GCSE (General Certificate of Secondary Education) exam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lsory education ends at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eople leave secondary school                 and go to colleges for further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hoose to stay at secondary school for two years more and prepare for a univers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алла 3 003-2"/>
          <p:cNvPicPr/>
          <p:nvPr/>
        </p:nvPicPr>
        <p:blipFill>
          <a:blip r:embed="rId1"/>
          <a:stretch/>
        </p:blipFill>
        <p:spPr>
          <a:xfrm>
            <a:off x="4788000" y="1484280"/>
            <a:ext cx="368136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M A R K 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WordArt 7" descr=""/>
          <p:cNvPicPr/>
          <p:nvPr/>
        </p:nvPicPr>
        <p:blipFill>
          <a:blip r:embed="rId1"/>
          <a:stretch/>
        </p:blipFill>
        <p:spPr>
          <a:xfrm>
            <a:off x="536400" y="542880"/>
            <a:ext cx="1616400" cy="60948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8" descr=""/>
          <p:cNvPicPr/>
          <p:nvPr/>
        </p:nvPicPr>
        <p:blipFill>
          <a:blip r:embed="rId2"/>
          <a:stretch/>
        </p:blipFill>
        <p:spPr>
          <a:xfrm>
            <a:off x="6583320" y="542880"/>
            <a:ext cx="207324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57200" y="1600200"/>
          <a:ext cx="8229600" cy="4602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E N G L I S H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R U S S I A N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*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tar)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ent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good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tory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poor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ful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WordArt 114" descr=""/>
          <p:cNvPicPr/>
          <p:nvPr/>
        </p:nvPicPr>
        <p:blipFill>
          <a:blip r:embed="rId3"/>
          <a:stretch/>
        </p:blipFill>
        <p:spPr>
          <a:xfrm>
            <a:off x="420840" y="6261120"/>
            <a:ext cx="2077920" cy="615960"/>
          </a:xfrm>
          <a:prstGeom prst="rect">
            <a:avLst/>
          </a:prstGeom>
          <a:ln w="0">
            <a:noFill/>
          </a:ln>
        </p:spPr>
      </p:pic>
      <p:pic>
        <p:nvPicPr>
          <p:cNvPr id="86" name="WordArt 116" descr=""/>
          <p:cNvPicPr/>
          <p:nvPr/>
        </p:nvPicPr>
        <p:blipFill>
          <a:blip r:embed="rId4"/>
          <a:stretch/>
        </p:blipFill>
        <p:spPr>
          <a:xfrm>
            <a:off x="3224160" y="6261120"/>
            <a:ext cx="1000080" cy="425520"/>
          </a:xfrm>
          <a:prstGeom prst="rect">
            <a:avLst/>
          </a:prstGeom>
          <a:ln w="0">
            <a:noFill/>
          </a:ln>
        </p:spPr>
      </p:pic>
      <p:pic>
        <p:nvPicPr>
          <p:cNvPr id="87" name="WordArt 117" descr=""/>
          <p:cNvPicPr/>
          <p:nvPr/>
        </p:nvPicPr>
        <p:blipFill>
          <a:blip r:embed="rId5"/>
          <a:stretch/>
        </p:blipFill>
        <p:spPr>
          <a:xfrm>
            <a:off x="4956120" y="6334200"/>
            <a:ext cx="1408320" cy="542880"/>
          </a:xfrm>
          <a:prstGeom prst="rect">
            <a:avLst/>
          </a:prstGeom>
          <a:ln w="0">
            <a:noFill/>
          </a:ln>
        </p:spPr>
      </p:pic>
      <p:pic>
        <p:nvPicPr>
          <p:cNvPr id="88" name="WordArt 118" descr=""/>
          <p:cNvPicPr/>
          <p:nvPr/>
        </p:nvPicPr>
        <p:blipFill>
          <a:blip r:embed="rId6"/>
          <a:stretch/>
        </p:blipFill>
        <p:spPr>
          <a:xfrm>
            <a:off x="7113600" y="6261120"/>
            <a:ext cx="1073160" cy="425520"/>
          </a:xfrm>
          <a:prstGeom prst="rect">
            <a:avLst/>
          </a:prstGeom>
          <a:ln w="0">
            <a:noFill/>
          </a:ln>
        </p:spPr>
      </p:pic>
      <p:pic>
        <p:nvPicPr>
          <p:cNvPr id="89" name="WordArt 119" descr=""/>
          <p:cNvPicPr/>
          <p:nvPr/>
        </p:nvPicPr>
        <p:blipFill>
          <a:blip r:embed="rId7"/>
          <a:stretch/>
        </p:blipFill>
        <p:spPr>
          <a:xfrm>
            <a:off x="3773520" y="1122480"/>
            <a:ext cx="1474920" cy="407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SCHOOL   RU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33b4d"/>
                </a:solidFill>
                <a:latin typeface="Arial"/>
              </a:rPr>
              <a:t>EVERY  BRITISH  SCHOOL  HAS  ITS  RU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 EXAMPLE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o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y hello when you see a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to school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 up when a teacher comes into th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r your school un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eat or drink in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run in the corri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bring mobile phones to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talk to people in les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j0297749"/>
          <p:cNvPicPr/>
          <p:nvPr/>
        </p:nvPicPr>
        <p:blipFill>
          <a:blip r:embed="rId1"/>
          <a:stretch/>
        </p:blipFill>
        <p:spPr>
          <a:xfrm>
            <a:off x="5796000" y="3821040"/>
            <a:ext cx="3003480" cy="2859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99125"/>
          <p:cNvPicPr/>
          <p:nvPr/>
        </p:nvPicPr>
        <p:blipFill>
          <a:blip r:embed="rId2"/>
          <a:stretch/>
        </p:blipFill>
        <p:spPr>
          <a:xfrm>
            <a:off x="539640" y="189000"/>
            <a:ext cx="136836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ECK  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600200"/>
          <a:ext cx="8229600" cy="464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AGE OF PUPIL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TYPE OF SCHOOL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- 5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 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7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11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– 16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– 18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CHECK    YOURSE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Public school mean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chool is 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chool is for every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Boarding school mean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live there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only boys t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ab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Et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amous public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amous state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Core cours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ic, drama, home eco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lish, maths,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j0251301"/>
          <p:cNvPicPr/>
          <p:nvPr/>
        </p:nvPicPr>
        <p:blipFill>
          <a:blip r:embed="rId1"/>
          <a:stretch/>
        </p:blipFill>
        <p:spPr>
          <a:xfrm>
            <a:off x="971640" y="1341360"/>
            <a:ext cx="2520720" cy="223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286034"/>
          <p:cNvPicPr/>
          <p:nvPr/>
        </p:nvPicPr>
        <p:blipFill>
          <a:blip r:embed="rId2"/>
          <a:stretch/>
        </p:blipFill>
        <p:spPr>
          <a:xfrm>
            <a:off x="971640" y="4221000"/>
            <a:ext cx="2232000" cy="1944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1403280" y="3716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ll done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25892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d once mor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HIGHER  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education begins at 18 and usually lasts three or four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go to universities, polytechnics or colleges of higher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now about 80 universities in Great Bri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ademic year is divided into thre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examinations are held at the end of autumn, spring and summer terms. Only two reexaminations are allow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universities usually keep to the customs of the past. Upon graduation all the students have to wear long black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w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“students cap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алла 3 004-2"/>
          <p:cNvPicPr/>
          <p:nvPr/>
        </p:nvPicPr>
        <p:blipFill>
          <a:blip r:embed="rId1"/>
          <a:stretch/>
        </p:blipFill>
        <p:spPr>
          <a:xfrm>
            <a:off x="5003640" y="1700280"/>
            <a:ext cx="316872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XFORD  AND  CAM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ford  University is the oldest and most famous in Britain. It was founded in the 12-th century  and is a collection of colleges with more then 12,000 students and 1,000 teac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bridge is the second oldest. It was founded in the 13-th century and has 27 colle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both have a reputation of privileged schools. Many prominent people studied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utorial system is one of the ways in which these universities differ from all other. Every student h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 plans his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алла 3 008-2"/>
          <p:cNvPicPr/>
          <p:nvPr/>
        </p:nvPicPr>
        <p:blipFill>
          <a:blip r:embed="rId1"/>
          <a:stretch/>
        </p:blipFill>
        <p:spPr>
          <a:xfrm>
            <a:off x="1763640" y="1197000"/>
            <a:ext cx="5688000" cy="2608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ORDS  OF  WISDOM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 o r   y o 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 and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never too late to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never too late to m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 learn while they t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 is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is the best of all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makes per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 to write well, or not to write at 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is the dress of thou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k before you sp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t time is never found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PB140003"/>
          <p:cNvPicPr/>
          <p:nvPr/>
        </p:nvPicPr>
        <p:blipFill>
          <a:blip r:embed="rId1"/>
          <a:stretch/>
        </p:blipFill>
        <p:spPr>
          <a:xfrm>
            <a:off x="5148360" y="1600200"/>
            <a:ext cx="2976480" cy="21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PB140001"/>
          <p:cNvPicPr/>
          <p:nvPr/>
        </p:nvPicPr>
        <p:blipFill>
          <a:blip r:embed="rId2"/>
          <a:stretch/>
        </p:blipFill>
        <p:spPr>
          <a:xfrm>
            <a:off x="5148360" y="3938760"/>
            <a:ext cx="2976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RITE  ABOUT  YOUR 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914051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Q U E S T I O N 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( a s   a   p l a 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it necessary to have educ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es compulsory education start in Russ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does primary education la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old were you when you started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form are you 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ubjects do you study at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you choose your subje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think is the most important subjects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have to wear a uni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re school rules at your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ood in your school? What is b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you going to do after finishing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7"/>
          <p:cNvPicPr/>
          <p:nvPr/>
        </p:nvPicPr>
        <p:blipFill>
          <a:blip r:embed="rId1"/>
          <a:stretch/>
        </p:blipFill>
        <p:spPr>
          <a:xfrm>
            <a:off x="6443640" y="4408560"/>
            <a:ext cx="24940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V O C A B U L A R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lsor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еспла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зд.)подготови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i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ладш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rs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етский с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ч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ред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ас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ществ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астная шк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сударственна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arding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нтер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-boys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кола дл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ьч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BS00554_"/>
          <p:cNvPicPr/>
          <p:nvPr/>
        </p:nvPicPr>
        <p:blipFill>
          <a:blip r:embed="rId1"/>
          <a:stretch/>
        </p:blipFill>
        <p:spPr>
          <a:xfrm>
            <a:off x="5003640" y="1844640"/>
            <a:ext cx="3124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4024440" y="30060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9" name="Picture 4" descr="anima022"/>
          <p:cNvPicPr/>
          <p:nvPr/>
        </p:nvPicPr>
        <p:blipFill>
          <a:blip r:embed="rId1"/>
          <a:stretch/>
        </p:blipFill>
        <p:spPr>
          <a:xfrm>
            <a:off x="3244680" y="1989000"/>
            <a:ext cx="2206800" cy="2303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7667640" y="6453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wardian Script ITC"/>
              </a:rPr>
              <a:t>T.G.M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 d u c a t i o 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brings  a  child  the worl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British children start school at the age of  3 or 4 if there i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lay scho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 their ho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school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rs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y are not compuls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are taught to sing, draw, they play different creative g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lsory education begins at the age of 5, when children go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imary schoo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алла 3 007-3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237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алла 3 012-2"/>
          <p:cNvPicPr/>
          <p:nvPr/>
        </p:nvPicPr>
        <p:blipFill>
          <a:blip r:embed="rId2"/>
          <a:stretch/>
        </p:blipFill>
        <p:spPr>
          <a:xfrm>
            <a:off x="5003640" y="4151160"/>
            <a:ext cx="3529080" cy="2390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P R I M A R Y   E D U C A T I O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hildren start primary school by the age of 5. Primary education lasts for six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ttend th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fant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5 to 7 and th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junior scho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y are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arents pay for their children to atte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hool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ll children have the right to go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state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chools are calle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m ar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boarding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9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ritish children attend state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nglish schools pupils have to address men teachers “Sir” and women teachers “Miss” or “Mr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алла 3 013-2"/>
          <p:cNvPicPr/>
          <p:nvPr/>
        </p:nvPicPr>
        <p:blipFill>
          <a:blip r:embed="rId1"/>
          <a:stretch/>
        </p:blipFill>
        <p:spPr>
          <a:xfrm>
            <a:off x="755640" y="1600200"/>
            <a:ext cx="3441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famou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hools in Britain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on, Harrow, Winche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year at Eton costs 17,000 pounds. It is very old, and a lot of important people used to be students there. It i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-boys sch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e William, the Queen’s grandson, went to Eton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j0293236"/>
          <p:cNvPicPr/>
          <p:nvPr/>
        </p:nvPicPr>
        <p:blipFill>
          <a:blip r:embed="rId1"/>
          <a:stretch/>
        </p:blipFill>
        <p:spPr>
          <a:xfrm>
            <a:off x="7308720" y="40464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60" name="WordArt 11" descr=""/>
          <p:cNvPicPr/>
          <p:nvPr/>
        </p:nvPicPr>
        <p:blipFill>
          <a:blip r:embed="rId2"/>
          <a:stretch/>
        </p:blipFill>
        <p:spPr>
          <a:xfrm>
            <a:off x="457200" y="225360"/>
            <a:ext cx="7259760" cy="134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алла 3 002-2"/>
          <p:cNvPicPr/>
          <p:nvPr/>
        </p:nvPicPr>
        <p:blipFill>
          <a:blip r:embed="rId3"/>
          <a:stretch/>
        </p:blipFill>
        <p:spPr>
          <a:xfrm>
            <a:off x="684360" y="3440160"/>
            <a:ext cx="7848360" cy="307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 O C A B U L A R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яз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выбор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акультатив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ы естественно-научно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ы гуманитарно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подаватель( в Оксфорде и Кембридже) закрепленный за студе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нтия ( одежда английских студентов и профессо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E03166_"/>
          <p:cNvPicPr/>
          <p:nvPr/>
        </p:nvPicPr>
        <p:blipFill>
          <a:blip r:embed="rId1"/>
          <a:stretch/>
        </p:blipFill>
        <p:spPr>
          <a:xfrm>
            <a:off x="4932360" y="2060640"/>
            <a:ext cx="3456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6979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CONDARY  EDUC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557360"/>
            <a:ext cx="39592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six years of primary education children take exams i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s and go to a secondary scho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ren study compulsory (core) subjec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lish, Lit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(information technolo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gious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ptio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r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foreign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cience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art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 (physical edu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алла 3 007-2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208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алла 3 013-4"/>
          <p:cNvPicPr/>
          <p:nvPr/>
        </p:nvPicPr>
        <p:blipFill>
          <a:blip r:embed="rId2"/>
          <a:stretch/>
        </p:blipFill>
        <p:spPr>
          <a:xfrm>
            <a:off x="468360" y="4076640"/>
            <a:ext cx="4032360" cy="238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SCHOOL  UNIF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t of people think that school uniforms in England are for the children from rich families at the country’s best schoo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it isn’t always true.In fact, uniforms first came to schools for poor because they were cheap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day a lot of British  schools have uniforms. Usually  they differ only in colours but include a blazer, a pullover, a shirt (a blouse), trousers (a skirt), tights or socks, shoes and boots, a scarf and gloves of a certain colour, a cap or a hat. School badge is on a cap and on a blazer’s pock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f the most important elements of the uniform i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 school t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алла 3 004-3"/>
          <p:cNvPicPr/>
          <p:nvPr/>
        </p:nvPicPr>
        <p:blipFill>
          <a:blip r:embed="rId1"/>
          <a:stretch/>
        </p:blipFill>
        <p:spPr>
          <a:xfrm>
            <a:off x="324000" y="2305080"/>
            <a:ext cx="4032000" cy="279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 tie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англичан есть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To be true to your school ti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верным своему школьному галсту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означает, что и через много лет выпускники сохраняют  верность своим школьным друзьям               и всегда готовы помочь 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ыпускников престижных частных школ такой галстук является не только символом дружбы и взаимопомощи, но и пропуском в общество самых известных и влиятельных люд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j0293236"/>
          <p:cNvPicPr/>
          <p:nvPr/>
        </p:nvPicPr>
        <p:blipFill>
          <a:blip r:embed="rId1"/>
          <a:stretch/>
        </p:blipFill>
        <p:spPr>
          <a:xfrm>
            <a:off x="7164360" y="40464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75" name="WordArt 8" descr=""/>
          <p:cNvPicPr/>
          <p:nvPr/>
        </p:nvPicPr>
        <p:blipFill>
          <a:blip r:embed="rId2"/>
          <a:stretch/>
        </p:blipFill>
        <p:spPr>
          <a:xfrm>
            <a:off x="457200" y="255600"/>
            <a:ext cx="7120080" cy="1353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алла 3 007-2"/>
          <p:cNvPicPr/>
          <p:nvPr/>
        </p:nvPicPr>
        <p:blipFill>
          <a:blip r:embed="rId3"/>
          <a:stretch/>
        </p:blipFill>
        <p:spPr>
          <a:xfrm>
            <a:off x="900000" y="3933720"/>
            <a:ext cx="7280280" cy="240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7:43:13Z</dcterms:created>
  <dc:creator>VIMPELCOM</dc:creator>
  <dc:description/>
  <dc:language>en-US</dc:language>
  <cp:lastModifiedBy>Юрий</cp:lastModifiedBy>
  <dcterms:modified xsi:type="dcterms:W3CDTF">2013-02-18T08:04:13Z</dcterms:modified>
  <cp:revision>45</cp:revision>
  <dc:subject/>
  <dc:title>Слайд 1</dc:title>
</cp:coreProperties>
</file>